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6FE4-4619-45AE-991C-8C548343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41C1-15B7-4D65-B178-9477C38C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3F12-4BD6-45EC-8136-F54196C9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DA23-BC01-4665-A439-EAF61626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B2AA-D4C9-4622-BE5F-7F0C546A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5A92-8446-4363-A3A6-8AB6F407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D316-A637-4FED-AED6-71B1BB9E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C308-18BB-4A62-925C-9539AAE9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5742-D306-46D2-B44A-2C44ED4F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14FD-BB97-48F6-A19F-931608CA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C7CF-0148-4C64-80AD-B73F6638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CA8-2003-49BD-9A48-E08CCFC9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E66C-6064-41EA-BF7A-0A3F4636AC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Четвертое сентябр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99640" y="263700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рфограммы в корнях слов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5. В каком слове на месте пропуска нужно писать разделительный мягкий зна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Обез_я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Об_ез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Лит_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Раз_едини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5. В каком слове на месте пропуска нужно писать разделительный мягкий зна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Обезья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6.В каком слове на месте пропуска пишется буква 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Ж_рдоч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Солнц_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Ш_ро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Ч_рточ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6.В каком слове на месте пропуска пишется буква 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Шоро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7. Укажите слово, в котором звуков больше, чем бук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Крас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Клочь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Красив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Коле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7. Укажите слово, в котором звуков больше, чем бук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Коле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8. Укажите слово, в котором ударение падает на первый сл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Каучу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Рапор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Парте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Фарфо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8. Укажите слово, в котором ударение падает на первый сл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Рапор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9. Расставьте знаки препинания и укажите сложное предлож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С самого утра в воздухе кружились игольчатые снежинки но к обеду растая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Весна разломала льды понесла их по рекам и разлила свои воды по пол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) Загадочная тишина царит вокруг но настороженное ухо всегда отличит массу зву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В первый день щенок утащил у хозяина новый сапог и отъел кусок голенищ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9. Расставьте знаки препинания и укажите сложное предлож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С самого утра в воздухе кружились игольчатые снежинки, но к обеду растая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Весна разломала льды, понесла их по рекам и разлила свои воды по пол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3) Загадочная тишина царит вокруг, но настороженное ухо всегда отличит массу зву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В первый день щенок утащил у хозяина новый сапог и отъел кусок голенищ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. В каком слове написание с "не" слитно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сделал (не)та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мне (не)жарк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много (не)успевающих по математик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никому (не)известный расска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аписать в словар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Ровесни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верстни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еча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ечал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печат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Бирюзовы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ыборочный диктан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748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растить на окне теплолюбивое растение; миролюбивые животные; расстилаться на лугу; постелить постель; блестящая поверхность; растут в лесу; ложиться на спину; разбираться в технике; располагаться в тени; разложить на кучки; предложить отве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пись в словарь корн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3400" y="1989000"/>
            <a:ext cx="74772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бъясните орфограммы-гласные в корня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ознае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Узна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печат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. В каком слове написание с "не" слитно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много (не)успевающих по математик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2. Укажите глагол в ряду данных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сказуемо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безударны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с тоб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) обозначиш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2. Укажите глагол в ряду данных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) обозначиш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Укажите, в каком слове безударная гласная проверяется словом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г</a:t>
            </a:r>
            <a:r>
              <a:rPr b="1" lang="ru-RU" sz="3200" spc="-1" strike="noStrike">
                <a:solidFill>
                  <a:srgbClr val="3333cc"/>
                </a:solidFill>
                <a:latin typeface="Monotype Corsiva"/>
              </a:rPr>
              <a:t>одный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годов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го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годовалы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годить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Укажите, в каком слове безударная гласная проверяется словом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г</a:t>
            </a:r>
            <a:r>
              <a:rPr b="1" lang="ru-RU" sz="3200" spc="-1" strike="noStrike">
                <a:solidFill>
                  <a:srgbClr val="3333cc"/>
                </a:solidFill>
                <a:latin typeface="Monotype Corsiva"/>
              </a:rPr>
              <a:t>одный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годить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4. Укажите предложение с однородными подлежащ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) Дождь стучал по крыше, трепал листья в саду, плескался на дворе в луж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) Пушистый снег закрывает дома, столбы, деревья белой пелен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 На юг улетают журавли, скворцы, грач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) Подолгу лежит на скатах крыш, на перилах балкона ин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4. Укажите предложение с однородными подлежащ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 На юг улетают журавли, скворцы, грач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EG</cp:lastModifiedBy>
  <dcterms:modified xsi:type="dcterms:W3CDTF">2003-09-03T12:35:43Z</dcterms:modified>
  <cp:revision>18</cp:revision>
  <dc:subject/>
  <dc:title>PowerPoint Presentation</dc:title>
</cp:coreProperties>
</file>